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9AED-2846-4854-81A8-74B8E2714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05CD-0CE7-4433-B373-AACE2A39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C5D127-D88F-4D7E-A0FE-4A4F1E46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3C14D-284C-41AD-AA7F-FC526BD8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B6CBA9-CBFF-4899-B964-B50ED9F4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ABCD3-1716-4F41-8704-8D882CFE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6549C7-4AEF-407C-8B1B-0B8FF809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62B8E-0393-4032-83E1-5DCB6B09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A8C45-44A5-4FBB-A3EA-12D808A6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FDD47-AD55-4E6F-AD9A-1104CEB47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03566-D69F-40F6-9E8A-1F63A5C1A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EC93B4-1277-48F4-9C37-48A91FE10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FA5D-E705-41B2-8BA3-0D37E1A9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60DC7D-8B33-4578-954C-98D2572B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0204DA-75A2-4E46-B2BE-7C124EF6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AECA89-28F6-4ED2-B705-83D1D100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483C6-210B-4A8F-BC9B-21C57C08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306BB4-194C-458D-8C7E-B5013594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FF8E17-B284-4869-9C1E-513E3E9E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99146-2EE9-4B0E-9C94-9ADB1BD4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53E51D-EAED-412F-9E98-07C7836C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1D345-D47A-4EF9-8A19-F4868F2F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599B90-3444-4C34-BC53-F7C0754FD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0935-199D-47EE-8B8F-33E006027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27090C-EAE2-4AAD-9F90-A85FFA24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AD56-B9D0-4ED3-B5AC-37BDCA73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1D62-045C-4EF0-9E8F-9290B056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237E-B441-4B48-B7B3-B251CE20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2378-C907-46AD-A307-B0590A73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6754-E0A1-4FB8-9445-1FB9199D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6B6E-3711-4717-AAED-E650F80C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4A23-259F-4DAC-BD7F-E464C6F9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063A-4124-4C62-A442-BA71E32C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E5C0-2801-4599-85A0-F81231C6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D64D-8C8D-4600-8ACD-D9F5300A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6F7E-0E7B-4F20-ABB2-58C0E2B9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588D-B1D7-4526-9B58-EC230B35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7425-DA05-4B00-85CB-3725AFFA0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12A15-A16B-42C1-BAB7-1C1B744C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093A9-9B51-4DAF-A2B6-E5CCD18B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F00AC-E18F-4576-A28F-6CA53BAB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A95BB-16E4-4185-92F7-B067DFAE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3AF9B-4A0A-4664-9C04-ED03C5B2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FDFF-1CAE-4891-B27E-2BD06B32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5E2AD-200A-4EC5-ADF6-9496228C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8A5EA-E21C-41F4-A268-CFBEC0F4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D78D0-6770-4806-9B51-0DE97405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B3E42-A39C-414E-B810-88CD0804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CC7B9-90D7-4FCB-9DFB-A034F3A5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26237-8680-498B-B620-60B34CADB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8430B-717C-4FC4-B1C2-D5110AD9E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87C3D-F6D7-43F7-93D4-557DCDB5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6147D-DB2D-4C95-BF21-EDABCBFB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EFF2A-5F0C-4FA5-8589-59E058A9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FBF9-F18C-4CB8-B936-B2A1454D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D3502-1AD1-431E-B04C-F040917B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C67A9-D21A-45E9-81D4-24FFB106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3CD99-8C2F-447B-8ACD-1D3E8F48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421BF-CC85-40B3-AC90-513EDD3A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46FFD-B14E-4025-8B39-49A03969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3DB55-9C58-4FD8-ACA0-99656767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D9840-BA08-4AEF-A7F0-58C4ACCC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6F2D4-CF40-4F78-9023-F78C40D37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F8720-FD75-4375-9D58-720C39DF8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24704-E6D9-481F-BA4E-6B5C487CF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508A-ECE3-4AD0-B001-2E7B367F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94E3D-51EA-4D3D-A3D0-38FC21CB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BD49B-FB16-485B-8606-112D7A6B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DED82-2F00-49AA-A296-03CC03B7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427E5-CEE2-4177-BCD6-4AAEAD8A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B7DF2-9313-4B91-BF6B-28B6D799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C0D20-F20B-4CD5-AC8A-69CC61AF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62FF5-31A3-4DAE-A710-821AD248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55B09-7647-48AB-BE02-A196A9E2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CE663-9C13-4EFC-8E4E-D28EFFE2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91724-AA24-4F68-8B01-030B19999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BE30-B196-425F-8B89-E8E18B5F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64843-D12D-4699-B25D-59C867678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3DCAF-78C5-4A5B-86C7-9D1D54F32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C8CA6-D4DA-4663-803F-8C223720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56BCE-8658-4340-AFE7-82002791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26CFA-FF12-409F-A4FA-DD715A3D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CCA77-33D8-42DD-87F4-A45E6254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22CD6-3D7E-47AE-ADB5-C5082401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BD23A-FD84-4CF2-9FD5-1413FF04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47647-FB7F-49A4-A02B-5AE356F8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68652-CCAB-43BB-9DAB-B67D50B5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F2D5-3DC5-4162-B7BE-F984CC28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9CC56-2791-46EA-BA37-262A7E20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8457F-AEFF-4307-BC62-D59D6683D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A7FCA-9F96-49E1-A152-59AA5F3BF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D64FF-6A1F-46D5-8BF1-0E9E9BCC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153F9-12DE-4F7B-9FD2-C7DABAAB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3519F-CB32-408A-A3C2-6538B75A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31693-556E-469F-9F86-6EC69023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17BB4-2330-4792-929A-E2450234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239B6-866F-41F3-9B49-9B9C45CB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9E53E-52A6-4817-863D-253F8067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C3FC-2532-4E3F-990E-03A2376D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8EA31-FA6A-42C5-BAF2-FAD583DD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BAC5B-802F-47E4-B1B6-7D518399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52539-A07A-49FC-ADBA-68C07DB4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7938D-8556-4229-922E-25A5CB7E1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C688C-C54A-4326-B558-1C6DF2B7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D0FB3-9826-4C31-9EB4-263D7DB64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5BAA1-1185-41DD-9DE4-722E7AC9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6D80F-FE58-40D6-9651-2DAFD420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7FA06-F653-4728-8758-BDE6EE52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1B3E7-14A5-4C5C-B64F-82F1A681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C3F0-D7CE-41C2-852C-0F932444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674CA-FAED-489F-A989-9F6DBAF0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8CAB8-CC94-4E5A-8C28-5988784F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6456B-5AE9-4ABC-9831-62228F84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19554-34EE-497B-A677-502EE488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B6B1B-BDFF-412E-B02D-E06162C2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4DFEA-BBF6-4A48-A7CC-26CAE129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D77E8-007C-460D-916F-1AF95B1DC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1B85E-B9DA-4DAC-85F0-EDD27F582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13B5D-1200-4B59-B62D-944BA223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BD606-BD5D-4572-B19B-175464C0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3840-5378-44DD-A323-EE7E8216A5C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EEF9-135E-49B4-A155-17C4E613877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D494-E20F-4E88-9270-8587C1F9050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6879-4BF3-4535-842D-1245DAEC8CC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4FCD-3B40-4990-B348-E9C6733A3AA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D42A-D2E7-425B-9699-DEE8A9E4A40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3D4B-2A46-4EEA-BF66-51C2174A818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67D6-3250-447F-BC96-8D0C281F8A3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99AD-3C25-41DD-9981-F5D8025B098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E460-1F57-47FC-95D2-7D76B812C50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4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저 분은 누구입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우리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부모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교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는 누구입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우리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아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생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장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할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Find out the English names of the fruits on p.44 and match them with the corresponding Korean n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수잔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저분은 누구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짱쯔밍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제 아내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제 집사람입니다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수잔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이 아이는 누구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짱쯔밍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우리 딸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제 딸입니다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분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gentleman (lad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내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w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이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딸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daughter 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s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 this~/that~/that~; pre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 방에서 기다리십시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 사람은 아주 친절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그 책을 읽고 싶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누구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who; interrogative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누구를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기다립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누구의 가방입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누가 옵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누구가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누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6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우리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우리가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하겠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여기가 우리 학교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우리 집에 놀러오세요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~ the ~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옷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res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여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woman (&lt;-&gt;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남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an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집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hou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책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가방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ba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교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lassroom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할머니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grandmo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은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는 누구입니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 아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 사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선생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은 누구입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제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학생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여자 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 아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 사람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0-24T15:59:38Z</dcterms:modified>
  <cp:revision>86</cp:revision>
  <dc:subject/>
  <dc:title>KOREAN LANGUAGE</dc:title>
</cp:coreProperties>
</file>